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png" ContentType="image/png"/>
  <Override PartName="/ppt/media/image12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4CA-2FC1-4638-854D-5A9D7DE3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7DC-D231-4FD9-A954-6D9F5AF5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E08-AB88-4FCF-9EEF-BD8ABA8C0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748-1034-474D-85A9-3B74AB53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771-8713-4B3E-B271-ECD8CD9A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A42-61A2-4984-BAFC-AE01FB73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0AD-5DC1-4906-B3BE-4D7DE82B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539-F721-4EA8-8FC1-5A21FB30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FEB7-8EC3-4513-BF91-67230008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4FF-86BC-4B57-82F8-40E6E971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7A3-E8EC-4EE3-9E5C-8C985B68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3324-5E7A-4F16-B127-DC70C39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BDE5-4889-4786-987B-F5E2D77B3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384360"/>
            <a:ext cx="8893080" cy="20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sson2:Boy,Girl and Teach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324000" y="333360"/>
            <a:ext cx="525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字叫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411280" y="5241960"/>
            <a:ext cx="727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ame is Liang Lia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字叫亮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020000" y="486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亮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200671613423071977"/>
          <p:cNvPicPr/>
          <p:nvPr/>
        </p:nvPicPr>
        <p:blipFill>
          <a:blip r:embed="rId1"/>
          <a:stretch/>
        </p:blipFill>
        <p:spPr>
          <a:xfrm>
            <a:off x="7023240" y="0"/>
            <a:ext cx="2120760" cy="2347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u=1105328582,3480897373&amp;fm=23&amp;gp=0"/>
          <p:cNvPicPr/>
          <p:nvPr/>
        </p:nvPicPr>
        <p:blipFill>
          <a:blip r:embed="rId2"/>
          <a:stretch/>
        </p:blipFill>
        <p:spPr>
          <a:xfrm>
            <a:off x="4500720" y="1773360"/>
            <a:ext cx="439236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u=1956664165,3548146338&amp;fm=90&amp;gp=0"/>
          <p:cNvPicPr/>
          <p:nvPr/>
        </p:nvPicPr>
        <p:blipFill>
          <a:blip r:embed="rId3"/>
          <a:stretch/>
        </p:blipFill>
        <p:spPr>
          <a:xfrm>
            <a:off x="250920" y="2492280"/>
            <a:ext cx="23050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4" descr="1-10-2-4.tif"/>
          <p:cNvPicPr/>
          <p:nvPr/>
        </p:nvPicPr>
        <p:blipFill>
          <a:blip r:embed="rId1"/>
          <a:stretch/>
        </p:blipFill>
        <p:spPr>
          <a:xfrm>
            <a:off x="6372360" y="3645000"/>
            <a:ext cx="2562120" cy="26733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0" descr="J01.tif"/>
          <p:cNvPicPr/>
          <p:nvPr/>
        </p:nvPicPr>
        <p:blipFill>
          <a:blip r:embed="rId2"/>
          <a:stretch/>
        </p:blipFill>
        <p:spPr>
          <a:xfrm>
            <a:off x="3995640" y="3294000"/>
            <a:ext cx="1424160" cy="35640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6" descr="LM30.tif"/>
          <p:cNvPicPr/>
          <p:nvPr/>
        </p:nvPicPr>
        <p:blipFill>
          <a:blip r:embed="rId3"/>
          <a:stretch/>
        </p:blipFill>
        <p:spPr>
          <a:xfrm>
            <a:off x="250920" y="3357720"/>
            <a:ext cx="2087640" cy="3241440"/>
          </a:xfrm>
          <a:prstGeom prst="rect">
            <a:avLst/>
          </a:prstGeom>
          <a:ln w="0">
            <a:noFill/>
          </a:ln>
        </p:spPr>
      </p:pic>
      <p:sp>
        <p:nvSpPr>
          <p:cNvPr id="71" name="圆角矩形标注 7"/>
          <p:cNvSpPr/>
          <p:nvPr/>
        </p:nvSpPr>
        <p:spPr>
          <a:xfrm>
            <a:off x="0" y="836640"/>
            <a:ext cx="2664000" cy="1633680"/>
          </a:xfrm>
          <a:prstGeom prst="wedgeRoundRectCallout">
            <a:avLst>
              <a:gd name="adj1" fmla="val -8523"/>
              <a:gd name="adj2" fmla="val 103157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 name is Li M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标注 4"/>
          <p:cNvSpPr/>
          <p:nvPr/>
        </p:nvSpPr>
        <p:spPr>
          <a:xfrm>
            <a:off x="2771640" y="260280"/>
            <a:ext cx="2735280" cy="2664000"/>
          </a:xfrm>
          <a:prstGeom prst="wedgeRoundRectCallout">
            <a:avLst>
              <a:gd name="adj1" fmla="val 14365"/>
              <a:gd name="adj2" fmla="val 69962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y name is Jenny. His name is  Ling 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标注 5"/>
          <p:cNvSpPr/>
          <p:nvPr/>
        </p:nvSpPr>
        <p:spPr>
          <a:xfrm>
            <a:off x="5688000" y="333360"/>
            <a:ext cx="3456000" cy="2635200"/>
          </a:xfrm>
          <a:prstGeom prst="wedgeRoundRectCallout">
            <a:avLst>
              <a:gd name="adj1" fmla="val 5856"/>
              <a:gd name="adj2" fmla="val 77712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My name is Jenny. Her name is Jenny. His name is Li 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2006716132641718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11280" y="54936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我的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my ,my  my  my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95280" y="4437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女她的</a:t>
            </a:r>
            <a:r>
              <a:rPr b="1" lang="en-US" sz="5400" spc="-1" strike="noStrike">
                <a:solidFill>
                  <a:srgbClr val="6600cc"/>
                </a:solidFill>
                <a:latin typeface="Arial"/>
              </a:rPr>
              <a:t>her, her  her  her</a:t>
            </a: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95280" y="32846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男他的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his</a:t>
            </a: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，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his  his   his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95280" y="1989000"/>
            <a:ext cx="899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你的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your, your  your  y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200671613374984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1403280" y="1557360"/>
            <a:ext cx="6193080" cy="29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你学会了吗？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539640" y="476280"/>
            <a:ext cx="842508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下列各组字母的大小写，一致的写“√”，不一致的写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Bb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 ）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H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 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Wm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 ）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.Tt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 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. Ij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  ） 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.Qp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 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.Fe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    ） 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.Bd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 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.R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     ）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.Gj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 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476280"/>
            <a:ext cx="8820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按照字母表顺序，重新排列以下小写字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  h  v   l  r  w  p  z  c  k  s  u   a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LM30.tif"/>
          <p:cNvPicPr/>
          <p:nvPr/>
        </p:nvPicPr>
        <p:blipFill>
          <a:blip r:embed="rId1"/>
          <a:stretch/>
        </p:blipFill>
        <p:spPr>
          <a:xfrm>
            <a:off x="1835280" y="260280"/>
            <a:ext cx="4968720" cy="3457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1332000" y="393372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男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0" descr="J01.tif"/>
          <p:cNvPicPr/>
          <p:nvPr/>
        </p:nvPicPr>
        <p:blipFill>
          <a:blip r:embed="rId1"/>
          <a:stretch/>
        </p:blipFill>
        <p:spPr>
          <a:xfrm>
            <a:off x="2627280" y="0"/>
            <a:ext cx="381636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239220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71640" y="458136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6000" spc="-1" strike="noStrike">
                <a:solidFill>
                  <a:srgbClr val="cc00cc"/>
                </a:solidFill>
                <a:latin typeface="Arial"/>
              </a:rPr>
              <a:t>girl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6000" spc="-1" strike="noStrike">
                <a:solidFill>
                  <a:srgbClr val="cc00cc"/>
                </a:solidFill>
                <a:latin typeface="Arial"/>
              </a:rPr>
              <a:t>女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735e488638796f4f3d414a5c2db1040"/>
          <p:cNvPicPr/>
          <p:nvPr/>
        </p:nvPicPr>
        <p:blipFill>
          <a:blip r:embed="rId1"/>
          <a:srcRect l="52918" t="0" r="0" b="18189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5013360"/>
            <a:ext cx="7273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eache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这是一位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老师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95280" y="1557360"/>
            <a:ext cx="87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rl girl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女孩     女孩女孩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rl gir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oy boy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是男孩   男孩男孩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oy bo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eacher teacher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是老师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老师老师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eacher teacher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95280" y="692280"/>
            <a:ext cx="46083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name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i L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’s your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932360" y="443700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 name is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i Ming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u=3053182725,797188205&amp;fm=21&amp;gp=0"/>
          <p:cNvPicPr/>
          <p:nvPr/>
        </p:nvPicPr>
        <p:blipFill>
          <a:blip r:embed="rId1"/>
          <a:stretch/>
        </p:blipFill>
        <p:spPr>
          <a:xfrm>
            <a:off x="5076720" y="1916280"/>
            <a:ext cx="3672000" cy="224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u=1956664165,3548146338&amp;fm=90&amp;gp=0"/>
          <p:cNvPicPr/>
          <p:nvPr/>
        </p:nvPicPr>
        <p:blipFill>
          <a:blip r:embed="rId2"/>
          <a:stretch/>
        </p:blipFill>
        <p:spPr>
          <a:xfrm>
            <a:off x="395280" y="3141720"/>
            <a:ext cx="3267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836640"/>
            <a:ext cx="525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她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字叫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843280" y="4653000"/>
            <a:ext cx="63007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e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e is Xiao L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她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字叫晓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588000" y="4221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晓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2311191033771532837"/>
          <p:cNvPicPr/>
          <p:nvPr/>
        </p:nvPicPr>
        <p:blipFill>
          <a:blip r:embed="rId1"/>
          <a:stretch/>
        </p:blipFill>
        <p:spPr>
          <a:xfrm>
            <a:off x="6588000" y="0"/>
            <a:ext cx="2276640" cy="251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u=1956664165,3548146338&amp;fm=90&amp;gp=0"/>
          <p:cNvPicPr/>
          <p:nvPr/>
        </p:nvPicPr>
        <p:blipFill>
          <a:blip r:embed="rId2"/>
          <a:stretch/>
        </p:blipFill>
        <p:spPr>
          <a:xfrm>
            <a:off x="250920" y="2708280"/>
            <a:ext cx="2449440" cy="3693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u=2530985470,3554709790&amp;fm=90&amp;gp=0"/>
          <p:cNvPicPr/>
          <p:nvPr/>
        </p:nvPicPr>
        <p:blipFill>
          <a:blip r:embed="rId3"/>
          <a:stretch/>
        </p:blipFill>
        <p:spPr>
          <a:xfrm>
            <a:off x="5076720" y="1197000"/>
            <a:ext cx="40672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6:57:07Z</dcterms:created>
  <dc:creator/>
  <dc:description/>
  <dc:language>en-US</dc:language>
  <cp:lastModifiedBy>Sky123.Org</cp:lastModifiedBy>
  <dcterms:modified xsi:type="dcterms:W3CDTF">2018-09-18T06:48:53Z</dcterms:modified>
  <cp:revision>1</cp:revision>
  <dc:subject/>
  <dc:title>Lesson2:Boy,Girl and Teacher</dc:title>
</cp:coreProperties>
</file>